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23D9E-70DD-4754-AF77-79B298CAD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556DF-B6A5-400D-92F6-E89FEC5FB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F8433-A72D-4111-A4E5-E3D0DB096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C435C-F026-4913-856C-6C351F6AA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8F0C6-6B87-4D67-8FBF-FA6C8FF33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FE167-C2B1-4615-86EB-3D3F64DDF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0EF43-E103-4DB1-9E46-D8987FE4A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43C11-9678-4C48-A5EB-4D44E2184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39B67-F727-44DC-B296-D10D75A85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7DFDA-624F-47D8-9D1D-85AC7F8B1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9259F-2E62-45C0-B544-DD60C0857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97C4B-1DC0-477D-A822-D326A6BF2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6C876-503E-432D-AD73-F849A15FC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08F12-6FF8-4579-94B7-687655621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3A688-2E47-4778-8D51-191242934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54C32-2A68-4629-9487-8B8303819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F3A79-2328-4DB1-8A4D-0B2939DA9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B9683-4C07-42A7-BEEE-C3B565723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B47BE-5E1D-4E8D-B420-29A8D637C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9D4CC-8152-49AE-929B-A70E95A17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537A6-6BF8-45AB-9268-D09FB4CE2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D84AD-89E3-4E09-AC5A-086C3F2DA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9AC95-6643-42FF-9EDF-F1631667D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74153-C601-48EB-A15F-A51E4370A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D5E5-BF5A-436C-972A-F69E1F588FBA}"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2246-E0C2-454D-9105-990C543B1A78}"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dbbd71"/>
                </a:solidFill>
                <a:latin typeface="Arial"/>
              </a:rPr>
              <a:t>Оценка соотношения риска и пользы при проведении этической экспертизы</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3200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5433840"/>
          </a:xfrm>
          <a:prstGeom prst="rect">
            <a:avLst/>
          </a:prstGeom>
          <a:noFill/>
          <a:ln w="0">
            <a:noFill/>
          </a:ln>
        </p:spPr>
        <p:txBody>
          <a:bodyPr lIns="90000" rIns="90000" tIns="46800" bIns="46800" anchor="t">
            <a:normAutofit fontScale="92000"/>
          </a:bodyPr>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В настоящее время сформирована солидная законодательная и нормативная база в международной и многих национальных практиках, которые строго регламентируют вовлечение в эксперименты и биомедицинские исследования детей, беременных женщин, стариков, безнадежно и психически больных, заключенных и приговоренных к смерти, а также лиц с ограниченной компетентностью. Запрещено изъятие живых клеток, тканей или органов эмбрионов и зародышей, плаценты или ее пленок для целей, не имеющих диагностического, профилактического или терапевтического характера и эта процедура уголовно наказуема (в случае отсутствия клинического или юридического обоснования).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54936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ри проведении медико-биологических исследований защите прав участников должно уделяться первостепенное значение. При исследовании эффективности какого-либо нового лекарственного препарата основным этическим требованием является в первую очередь получение пользы с наименьшим риском для больного. Объективность исследования достигается путем оптимальной выборки контрольной и опытной группы, применением двойного слепого метода, при котором ни врач, ни пациент не знают, получает ли больной препарат или плацебо. Во многих случаях нельзя избежать риска, но он должен быть минимальным. При оценке риска необходимо точно вести протокол не только возможного физического вреда, но и неудобства, чувства стеснения, дискомфорта, которые могут возникнуть у участников эксперимента.</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Этическая экспертиза, которую проводит этический комитет, в первую очередь должна обратить внимание на обеспечение гарантии соблюдения этических норм при экспериментах на человеке, чаще всего при испытании лекарственных препаратов. Для этого этический комитет должен провести тщательную экспертизу протоколов медико-биологического исследования. Принципы и процедуры этической экспертизы при экспериментах на человек разработаны относительно полно, и они включают три основных принципа: научная обоснованность, соотношение риска и пользы и информированное согласие. </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fontScale="99000"/>
          </a:bodyPr>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лохо обоснованное исследование может привести к потере участниками эксперимента времени, а нередко – к неоправданному риску. При проведении экспертизы протоколов клинического испытания необходимо учесть как научное обоснование цели и задач исследования, результаты доклинических исследований, результаты предшествующих клинических испытаний, так и оценку пользы и риска.</a:t>
            </a:r>
            <a:endParaRPr b="0" lang="en-US" sz="2500" spc="-1" strike="noStrike">
              <a:solidFill>
                <a:srgbClr val="ffffff"/>
              </a:solidFill>
              <a:latin typeface="Tahoma"/>
            </a:endParaRPr>
          </a:p>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еред исследователем, стоящим перед проблемой экспериментирования, могут возникнуть следующие виды риска:</a:t>
            </a:r>
            <a:endParaRPr b="0" lang="en-US" sz="2500" spc="-1" strike="noStrike">
              <a:solidFill>
                <a:srgbClr val="ffffff"/>
              </a:solidFill>
              <a:latin typeface="Tahoma"/>
            </a:endParaRPr>
          </a:p>
          <a:p>
            <a:pPr lvl="1" marL="980640" indent="-528120">
              <a:lnSpc>
                <a:spcPct val="80000"/>
              </a:lnSpc>
              <a:spcBef>
                <a:spcPts val="624"/>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участники могут получить стресс, погибнуть, испытывать чувство вины или попрания чувства собственного достоинства, они могут стать жертвами недобросовестного обращения, лишиться здоровья и т.п.</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fontScale="91000"/>
          </a:bodyPr>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высока вероятность профессионального и научного ущерба в случае фальсификации или плагиата, злоупотребления доверием, умышленного нарушения нормативных актов.</a:t>
            </a:r>
            <a:endParaRPr b="0" lang="en-US" sz="2600" spc="-1" strike="noStrike">
              <a:solidFill>
                <a:srgbClr val="ffffff"/>
              </a:solidFill>
              <a:latin typeface="Tahoma"/>
            </a:endParaRPr>
          </a:p>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есть вероятность того, что могут возникнуть проблемы для общества из-за неприятия информации или ее негативного восприятия и наоборот, ибо известно, что замысел и методика эксперимента могут принести обществу не только пользу, но и вред. Потенциальные положительные итоги работы относятся ко всему обществу, а вероятный ущерб – отдельным индивидуумам.</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5000"/>
          </a:bodyPr>
          <a:p>
            <a:pPr marL="32580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	</a:t>
            </a:r>
            <a:r>
              <a:rPr b="0" lang="ru-RU" sz="2300" spc="-1" strike="noStrike">
                <a:solidFill>
                  <a:srgbClr val="ffffff"/>
                </a:solidFill>
                <a:latin typeface="Tahoma"/>
              </a:rPr>
              <a:t>При проведении клинического испытания экспериментатор должен разработать методику исследования, которая максимально обеспечивала бы высокое качество получаемой информации и до минимума свела риск для его участников и общества. Исследователь при проведении эксперимента старается добиться принципа «риск – выгода», однако результаты эксперимента не всегда прогнозируемы ввиду того, что:</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невозможно выявить все аспекты эксперимента, ведь потому он и проводится, что результат его неизвестен;</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оценки риска и выгоды субъективны;</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трудно вычислить выгоду общества, когда участники не получают вообще никакой выгоды, а риск ими осознается;</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происходит конфликт интересов исследователя с интересами общества: экспериментатор может скрывать недостатки эксперимента.</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Экспериментатором должен быть высококвалифицированный специалист, который умеет не только хорошо проводить исследование, но и ответственно относиться к полученным результата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Большое значение при проведении этических экспертиз имеет определение информированности и наличие согласия (добровольности) участников (субъектов) как при терапевтических, так и нетерапевтических биомедицинских экспериментах. В Хельсинкской Декларации Всемирной Медицинской Ассоциации указано: «При проведении любого исследования с участием людей в качестве субъектов каждый потенциальный субъект исследования должен быть надлежащим образом проинформирован о целях, методах, ожидаемой пользе и возможном риске исследования, а также о неудобствах, которые могут быть вызваны экспериментом. Субъекты исследования должны быть проинформированы о том, что они имеют неограниченное право отказаться от участия в исследовании и в любое время взять назад согласие на участие. Врач должен получить такое согласие – свободное и информированное – от субъекта исслед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Информация может представляться в устной (лучше в письменной) форме, но на языке, понятном больному. Согласие пациента следует иметь во всех случаях, даже когда врачу кажется, что эксперимент не несет никакого риска. Исследование без согласия (лучше письменного) пациента является нарушением его прав, посягательством на его частную жизнь. </a:t>
            </a:r>
            <a:endParaRPr b="0" lang="en-US" sz="2700" spc="-1" strike="noStrike">
              <a:solidFill>
                <a:srgbClr val="ffffff"/>
              </a:solidFill>
              <a:latin typeface="Tahoma"/>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БЛАГОДАРЮ ЗА ВНИМАНИЕ!</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756720" y="620640"/>
            <a:ext cx="7775640" cy="4897440"/>
          </a:xfrm>
          <a:prstGeom prst="rect">
            <a:avLst/>
          </a:prstGeom>
          <a:noFill/>
          <a:ln w="0">
            <a:noFill/>
          </a:ln>
        </p:spPr>
        <p:txBody>
          <a:bodyPr lIns="90000" rIns="90000" tIns="46800" bIns="46800" anchor="t">
            <a:noAutofit/>
          </a:bodyPr>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Со времен Гиппократа и до середины 20-го века медицинская этика концентрировалась, в основном, на обязанностях и поведении врача по отношении к его пациентам в духе двух главных принципов – «не навреди» и «делай добро».</a:t>
            </a:r>
            <a:endParaRPr b="0" lang="en-US" sz="2500" spc="-1" strike="noStrike">
              <a:solidFill>
                <a:srgbClr val="ffffff"/>
              </a:solidFill>
              <a:latin typeface="Tahoma"/>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Tahoma"/>
              </a:rPr>
              <a:t>Второй этап</a:t>
            </a:r>
            <a:r>
              <a:rPr b="0" lang="ru-RU" sz="2500" spc="-1" strike="noStrike">
                <a:solidFill>
                  <a:srgbClr val="ffffff"/>
                </a:solidFill>
                <a:latin typeface="Tahoma"/>
              </a:rPr>
              <a:t> в развитии медицинской этики начался с середины 20-го века после того, как стало известно об «экспериментах» нацистских врачей над военнопленными и заключенными концентрационных лагерей во Второй мировой войне. В Европе и США движение в пользу субъектов биомедицинских исследований началось после Нюрнбергского процесса, в странах СНГ – с 90-ых годов, и в последние годы эта проблема вызывает все больший интерес у мирового сообщества. </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700" spc="-1" strike="noStrike">
                <a:solidFill>
                  <a:srgbClr val="ffffff"/>
                </a:solidFill>
                <a:latin typeface="Tahoma"/>
              </a:rPr>
              <a:t>Появились международные документы, такие как Нюрнбергский Кодекс, Хельсинкская декларация медицинской ассоциации, Международные этические принципы биомедицинских исследований с участием людей, ВОЗ, Принципы качественной клинической практики, Конвенция по правам человека и биомедицине и др. С каждым годом увеличивается количество стран, принимающих национальные юридические документы, одним из наиболее важных принципов которых, гарантирующих защиту человека в ходе научного исследования, является </a:t>
            </a:r>
            <a:r>
              <a:rPr b="1" lang="ru-RU" sz="2700" spc="-1" strike="noStrike">
                <a:solidFill>
                  <a:srgbClr val="ffffff"/>
                </a:solidFill>
                <a:latin typeface="Tahoma"/>
              </a:rPr>
              <a:t>приемлемость соотношения риска – пользы.</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620640"/>
            <a:ext cx="8229600" cy="5184720"/>
          </a:xfrm>
          <a:prstGeom prst="rect">
            <a:avLst/>
          </a:prstGeom>
          <a:noFill/>
          <a:ln w="0">
            <a:noFill/>
          </a:ln>
        </p:spPr>
        <p:txBody>
          <a:bodyPr lIns="90000" rIns="90000" tIns="46800" bIns="46800" anchor="t">
            <a:normAutofit fontScale="97000"/>
          </a:bodyPr>
          <a:p>
            <a:pPr marL="3326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700" spc="-1" strike="noStrike">
                <a:solidFill>
                  <a:srgbClr val="ffffff"/>
                </a:solidFill>
                <a:latin typeface="Tahoma"/>
              </a:rPr>
              <a:t>Нюрнбергским Международным трибуналом в 1946 году были сформулированы 10 непременных этических условий проведения научных исследований на людях, среди которых одними из важных являются предварительные эксперименты на животных и максимальная защита от риска для жизни и здоровья. Это было закреплено Нюрнбергским кодексом медицинской этики (1948 г.), который впервые ввел понятие и различие, основополагающе зафиксированные Хельсинкской декларацией, двух видов клинических исследований: </a:t>
            </a:r>
            <a:r>
              <a:rPr b="1" lang="ru-RU" sz="2700" spc="-1" strike="noStrike">
                <a:solidFill>
                  <a:srgbClr val="ffffff"/>
                </a:solidFill>
                <a:latin typeface="Tahoma"/>
              </a:rPr>
              <a:t>терапевтических и нетерапевтических. </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549360"/>
            <a:ext cx="8229600" cy="5400720"/>
          </a:xfrm>
          <a:prstGeom prst="rect">
            <a:avLst/>
          </a:prstGeom>
          <a:noFill/>
          <a:ln w="0">
            <a:noFill/>
          </a:ln>
        </p:spPr>
        <p:txBody>
          <a:bodyPr lIns="90000" rIns="90000" tIns="46800" bIns="46800" anchor="t">
            <a:normAutofit fontScale="95000"/>
          </a:bodyPr>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1" lang="ru-RU" sz="2600" spc="-1" strike="noStrike">
                <a:solidFill>
                  <a:srgbClr val="ffffff"/>
                </a:solidFill>
                <a:latin typeface="Tahoma"/>
              </a:rPr>
              <a:t>Терапевтические</a:t>
            </a:r>
            <a:r>
              <a:rPr b="0" lang="ru-RU" sz="2600" spc="-1" strike="noStrike">
                <a:solidFill>
                  <a:srgbClr val="ffffff"/>
                </a:solidFill>
                <a:latin typeface="Tahoma"/>
              </a:rPr>
              <a:t> эксперименты чаще имеют задачи по совершенствованию лечения пациентов, и в основу его заложен принцип уравновешивания. Он подразумевает необходимость проведения исследования, связанного с его терапевтической значимостью, т.е. без его проведения нельзя сказать о наличии или отсутствии пользы для пациентов.</a:t>
            </a:r>
            <a:endParaRPr b="0" lang="en-US" sz="2600" spc="-1" strike="noStrike">
              <a:solidFill>
                <a:srgbClr val="ffffff"/>
              </a:solidFill>
              <a:latin typeface="Tahoma"/>
            </a:endParaRPr>
          </a:p>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Терапевтические эксперименты связаны с известным риском, в связи с чем для оправдания их этичности необходимо предварительное исследование (опытом </a:t>
            </a:r>
            <a:r>
              <a:rPr b="0" lang="en-US" sz="2600" spc="-1" strike="noStrike">
                <a:solidFill>
                  <a:srgbClr val="ffffff"/>
                </a:solidFill>
                <a:latin typeface="Tahoma"/>
              </a:rPr>
              <a:t>in vitro</a:t>
            </a:r>
            <a:r>
              <a:rPr b="0" lang="ru-RU" sz="2600" spc="-1" strike="noStrike">
                <a:solidFill>
                  <a:srgbClr val="ffffff"/>
                </a:solidFill>
                <a:latin typeface="Tahoma"/>
              </a:rPr>
              <a:t>, экспериментом на животных, клиническими наблюдениями).</a:t>
            </a:r>
            <a:r>
              <a:rPr b="0" lang="ru-RU"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При терапевтических экспериментах интересы врача и больного едины, хотя здесь выступает одна сложная проблема – согласие больного на проведение эксперимента с определением границ «этически допустимого» в клинических исследованиях. Предлагаемая степень риска никогда не должна превышать той, которая определяется гуманитарной важностью решаемой проблемы, а эксперимент должен проводиться так, чтобы избежать любых, не являющихся необходимыми, физических и душевных страданий и травм.</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620640"/>
            <a:ext cx="8229600" cy="590400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Нетерапевтические</a:t>
            </a:r>
            <a:r>
              <a:rPr b="0" lang="ru-RU" sz="2400" spc="-1" strike="noStrike">
                <a:solidFill>
                  <a:srgbClr val="ffffff"/>
                </a:solidFill>
                <a:latin typeface="Tahoma"/>
              </a:rPr>
              <a:t> исследования, часто способствующие развитию медицинской науки, не приносят какую-нибудь пользу для субъектов эксперимента, т.к. не имеют терапевтической ценности. Они, в основном, преследуют научную цель. Нетерапевтические эксперименты осуществляются как на больных, так и зачастую на здоровых людях, при этом должен сохраняться принцип «добровольности». Участник эксперимента переносит страдания, рискует здоровьем ради общего блага и естественно, что на это он должен идти добровольно. Но и при соблюдении добровольности экспериментатор должен выяснить, что лежит в ее основе: стремление быть полезным людям или другие желания. Ряд специалистов в области медицинской этики считают, что первые эксперименты этично проводить врачам на себе и своих коллегах, так как они наиболее осведомлены обо всех сторонах экспериментир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Требования к проведению клинических испытаний и последовательность их проведения вытекают из принципов </a:t>
            </a:r>
            <a:r>
              <a:rPr b="0" lang="en-US" sz="2800" spc="-1" strike="noStrike">
                <a:solidFill>
                  <a:srgbClr val="ffffff"/>
                </a:solidFill>
                <a:latin typeface="Tahoma"/>
              </a:rPr>
              <a:t>GCP</a:t>
            </a:r>
            <a:r>
              <a:rPr b="0" lang="ru-RU" sz="2800" spc="-1" strike="noStrike">
                <a:solidFill>
                  <a:srgbClr val="ffffff"/>
                </a:solidFill>
                <a:latin typeface="Tahoma"/>
              </a:rPr>
              <a:t> (</a:t>
            </a:r>
            <a:r>
              <a:rPr b="0" lang="en-US" sz="2800" spc="-1" strike="noStrike">
                <a:solidFill>
                  <a:srgbClr val="ffffff"/>
                </a:solidFill>
                <a:latin typeface="Tahoma"/>
              </a:rPr>
              <a:t>good clinical practice </a:t>
            </a:r>
            <a:r>
              <a:rPr b="0" lang="ru-RU" sz="2800" spc="-1" strike="noStrike">
                <a:solidFill>
                  <a:srgbClr val="ffffff"/>
                </a:solidFill>
                <a:latin typeface="Tahoma"/>
              </a:rPr>
              <a:t>– качественные клинические исследования или практика), принятых Европейским сообществом (ЕС) в июле 1991 года, как международный стандарт по проведению клинических испытаний для стран, входящих в сообщество, и Международными правилами проведения клинических испытаний (</a:t>
            </a:r>
            <a:r>
              <a:rPr b="0" lang="en-US" sz="2800" spc="-1" strike="noStrike">
                <a:solidFill>
                  <a:srgbClr val="ffffff"/>
                </a:solidFill>
                <a:latin typeface="Tahoma"/>
              </a:rPr>
              <a:t>ICH GCP</a:t>
            </a:r>
            <a:r>
              <a:rPr b="0" lang="ru-RU" sz="2800" spc="-1" strike="noStrike">
                <a:solidFill>
                  <a:srgbClr val="ffffff"/>
                </a:solidFill>
                <a:latin typeface="Tahoma"/>
              </a:rPr>
              <a:t>, 1996), гарантирующих надежность и достоверность полученных данных и обеспечивающих защиту прав человек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ffffff"/>
                </a:solidFill>
                <a:latin typeface="Tahoma"/>
              </a:rPr>
              <a:t>Основные принципы</a:t>
            </a:r>
            <a:r>
              <a:rPr b="0" lang="ru-RU" sz="2800" spc="-1" strike="noStrike">
                <a:solidFill>
                  <a:srgbClr val="ffffff"/>
                </a:solidFill>
                <a:latin typeface="Tahoma"/>
              </a:rPr>
              <a:t> </a:t>
            </a:r>
            <a:r>
              <a:rPr b="0" lang="en-US" sz="2800" spc="-1" strike="noStrike">
                <a:solidFill>
                  <a:srgbClr val="ffffff"/>
                </a:solidFill>
                <a:latin typeface="Tahoma"/>
              </a:rPr>
              <a:t>ICH GCP </a:t>
            </a:r>
            <a:r>
              <a:rPr b="0" lang="ru-RU" sz="2800" spc="-1" strike="noStrike">
                <a:solidFill>
                  <a:srgbClr val="ffffff"/>
                </a:solidFill>
                <a:latin typeface="Tahoma"/>
              </a:rPr>
              <a:t>в соотношении риска и пользы следующие:</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До начала исследования следует взвесить связанные с ним, с одной стороны, возможные риск и неудобства, а, с другой – предполагаемую пользу для испытуемого и для общества. Исследование следует начинать и продолжать только в том случае, если предполагаемая польза оправдывает риск.</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рава, безопасность и здоровье испытуемых являются наиболее важными соображениями и должны превалировать над интересами науки и обществ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14:55Z</dcterms:created>
  <dc:creator>Peter Roberts</dc:creator>
  <dc:description/>
  <dc:language>en-US</dc:language>
  <cp:lastModifiedBy>Касымов А.</cp:lastModifiedBy>
  <dcterms:modified xsi:type="dcterms:W3CDTF">2006-11-02T17:09:46Z</dcterms:modified>
  <cp:revision>18</cp:revision>
  <dc:subject/>
  <dc:title>Headache Case Presentations</dc:title>
</cp:coreProperties>
</file>